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3D4-6C6D-4CAB-86F6-6D9A5828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8AF-54A3-4C9C-BC97-5D6D3AD2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82A-036B-47A9-8C52-C10D9F79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EF1-1C40-4F20-A708-352BBE7B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E66-3220-477E-841D-A1551D8B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48D0-AA61-45BE-8EFB-DC9C4BE5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9D26-C1F9-4765-92A1-7994B39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1D3-5D65-4A67-A8A7-ECE7DFA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759C-B34E-4B0A-A1AE-565999A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FBE6-6424-4AAA-B0D7-831A2A7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1BE5-615F-431C-A80F-25C4279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048-481C-4C4A-8BF0-4713CBC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57D7-989F-4C7E-A4D4-4EFB7F9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521-AD8F-4836-82F9-9B04E26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A9DF-8AD1-4D9B-A438-BBA803DB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F47E-F5C4-4628-9ED4-95B3A18F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BB9F-7B0B-4B43-ABB3-625C6005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97A-C1F2-4303-92E2-A049E29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895-2AA5-4E3E-9433-FF72661E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684-E588-4AC6-89B6-DBD0866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A52-F184-4E75-99E5-C30AC721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36B-E320-448E-B26D-A1C23E6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A96-8C3D-410E-BCCD-FA02692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C3F-183D-432D-A425-AC4993A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B33B-BC6D-46BC-9D69-F8CC0A339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B4AF-9672-418D-9B75-12B4F627B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oal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ya Cra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E471-0198-4B48-AD9D-F54AB57F5F65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know the food source, adaption and environment of a koa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envir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f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ada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a 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and different because I’m going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27Z</dcterms:created>
  <dc:creator/>
  <dc:description/>
  <dc:language>en-US</dc:language>
  <cp:lastModifiedBy>City School</cp:lastModifiedBy>
  <dcterms:modified xsi:type="dcterms:W3CDTF">2013-02-19T21:28:21Z</dcterms:modified>
  <cp:revision>37</cp:revision>
  <dc:subject/>
  <dc:title>The Pitch-Then-Plan Business Planning Template</dc:title>
</cp:coreProperties>
</file>